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0E35-587B-414C-AFE1-C1687A7458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in pairs, helping each other, then display their writing to others. The class can decide which letter they like best, and pick out 2 errors each to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239C-08BD-406D-9FBA-1696B325EF4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90 -10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CD51-F430-49B0-B669-59969211F2B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or groups make lists and then comp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85FD-A85C-4447-92D6-F9359740550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: America’s most dangerous ex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A176-60FC-43D8-900B-F7C317CD977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/groups disc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4EE8-36A4-4761-B3CE-9CD2229459A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 1) c  2) e  3) b  4)  f  5)  a  6)  j  7) h  8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3F1F-7D48-4CED-BC39-82901F43526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in pairs/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5A25-764B-4B6C-9130-9DAA49E8BF1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the key words learners will need to scan for to find the answers and agree with them on an appropriate time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are true except (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40DD-AF56-4162-B2C0-60F3A3256A3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82B0-5D15-45DF-B262-F03DFFF666A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25A-3A37-4B5A-B1E6-9AE2222D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3A6-CED2-49CB-A820-B55FAA96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9FF-33C1-4E9B-AA63-A9A55B17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EE1-54C2-4902-A331-BF719B35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9B0-77C8-42C1-B6B8-49B2A7F9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3BE-0710-4072-9493-0C913F48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717-92DA-4A7D-846D-4D22394D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66B-3E59-40A4-B436-03D3ABF3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E75-1DD0-4177-8EC1-6A66F974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988-8229-479C-B3A1-CF4DD9C5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470-64F9-49AE-9C12-2B6A8050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034-61D1-480C-953E-92F2AE56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E2D7-E876-4B5B-8E9F-FDAD27801D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int.org/blog/2014/08/22/america-obesity-export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merica%27s_most_dangerous_expor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1698120"/>
            <a:ext cx="669600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508464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574120" cy="148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928880" y="1916280"/>
            <a:ext cx="50576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984807"/>
                </a:solidFill>
                <a:latin typeface="Calibri"/>
              </a:rPr>
              <a:t>Writing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58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Write a letter to President Obama explaining what he should do about America’s export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318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ow read the original artic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4/08/22/america-obesity-expor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4508640" y="393840"/>
            <a:ext cx="38541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Today’s lesson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Spea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Readi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riting a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067360" y="260280"/>
            <a:ext cx="3610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32523"/>
                </a:solidFill>
                <a:latin typeface="Calibri"/>
              </a:rPr>
              <a:t>              </a:t>
            </a: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List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Make a list of what you think the USA exports to other countri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012000" y="309600"/>
            <a:ext cx="23050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32523"/>
                </a:solidFill>
                <a:latin typeface="Calibri"/>
              </a:rPr>
              <a:t>                     </a:t>
            </a: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eadlin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372360" y="189000"/>
            <a:ext cx="2303280" cy="137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460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Put the headline in the right order</a:t>
            </a:r>
            <a:r>
              <a:rPr b="0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84807"/>
                </a:solidFill>
                <a:latin typeface="Calibri"/>
              </a:rPr>
              <a:t>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export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  ‘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s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most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America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danger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Discuss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at do you think are America’s dangerous export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y are they dangerous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443640" y="189000"/>
            <a:ext cx="23050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24000" y="188640"/>
            <a:ext cx="3095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2523"/>
                </a:solidFill>
                <a:latin typeface="Calibri"/>
              </a:rPr>
              <a:t>Match words and meaning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260280"/>
            <a:ext cx="561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1) Illness – when blood pressure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2) It helps your body u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3) Describes someone who is very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4) Deep sleep – you cannot wake up the per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5) The health problem when people are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6) Part of food which is good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7) Like crisps and popcor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8) Illness – when  the body has a problem with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16720" y="1844280"/>
            <a:ext cx="369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40000" y="1557000"/>
            <a:ext cx="309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a) 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b)  ob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c) 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d) 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e) 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f)   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h)  jun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i)   nutr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True or false? What do you think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1)The US spends about $150 billion a year on obesity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2) 70 per cent of  women and nearly 40 per cent of men in South Africa are overweight or obes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3) In Mexico soft drinks are often cheaper than bottled wat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4) The US government gives money to help sell junk foo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5) The US government gives money to help sell fruit and vegetabl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6) More people in the world die from obesity than hung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7) More people die from junk food than from drugs</a:t>
            </a:r>
            <a:r>
              <a:rPr b="1" lang="en-GB" sz="3000" spc="-1" strike="noStrike">
                <a:solidFill>
                  <a:srgbClr val="984807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Now read the text and check your ideas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292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merica%27s_most_dangerous_ex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97480" y="2421000"/>
            <a:ext cx="3362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Read the text again – are these sentences</a:t>
            </a:r>
            <a:br>
              <a:rPr sz="2800"/>
            </a:b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 true or fal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Many countries do  not have enough money to help people with diabet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Taco Bell wants Americans to eat an extra meal every 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There are plans to sell more Coca Cola to the poorer people in South Afric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Obesity is America’s worst expor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251840" y="333360"/>
            <a:ext cx="16318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13:58:53Z</dcterms:created>
  <dc:creator>Linda Ruas</dc:creator>
  <dc:description/>
  <dc:language>en-US</dc:language>
  <cp:lastModifiedBy>Linda Ruas</cp:lastModifiedBy>
  <dcterms:modified xsi:type="dcterms:W3CDTF">2014-08-31T20:33:01Z</dcterms:modified>
  <cp:revision>63</cp:revision>
  <dc:subject/>
  <dc:title>PowerPoint Presentation</dc:title>
</cp:coreProperties>
</file>